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EEE-B0C7-4D3B-9CAA-6F576217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1B0-5248-49BE-9811-8CE03859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A72-8171-4ECE-941A-920DC72C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57E-379F-4F45-9B3A-460205B4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130E-10FE-4FC7-A1B6-FF3D2F1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2EDB-6AF0-45EE-97EA-2FB5DBFA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CDBF-10F3-42F6-A34C-35F18CE2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425-5D07-4202-A1CF-3FB72D6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B306-CB6A-4E9C-9A8A-79ECF2EE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4189-5D7B-4278-AD56-CA7139BB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5CCC-7714-4F5A-B9A7-4D5DA48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EBE-B781-4110-A524-7D96885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33E-8431-4E4E-B7D5-AF5E780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17B0-438D-4EF6-A7E4-7D49247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D75-46AC-4A46-B431-E40338B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464-AD56-4D88-AB2B-AD781089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6C75-DC4B-44DE-ADDA-B240718E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78B-B1CC-4F28-91B6-CE2117D9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E18-5DBA-43D0-922E-E50F2E6E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E9F-0A51-45FF-A8DA-F51B8A3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D54-E672-4F98-8AFC-1359CC05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99D-B3EF-4392-803F-94429A0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3D1-A924-4CBD-9413-D14C57E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B0C-34BC-426E-9465-E781C09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AA80-6580-4BA6-BC7F-3B7F669F325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84D2-7B7C-43CC-BE0B-B01DA7EEF71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By: Shyheeda Washingt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Dr. Scearce 7th period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r>
              <a:rPr b="0" lang="en-US" sz="3400" spc="-1" strike="noStrike">
                <a:solidFill>
                  <a:srgbClr val="ffffff"/>
                </a:solidFill>
                <a:latin typeface="Harrington"/>
              </a:rPr>
              <a:t> is the increase in the average temperature of the Earth's near-surface air and oceans since the mid-twentieth century and its projected continu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14600" y="22860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Global near-surface temperatures have increased by 0.7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1.3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relative to the period 1860</a:t>
            </a:r>
            <a:r>
              <a:rPr b="0" lang="en-US" sz="2500" spc="-1" strike="noStrike">
                <a:solidFill>
                  <a:srgbClr val="ffffff"/>
                </a:solidFill>
                <a:latin typeface="Lucida Grande"/>
              </a:rPr>
              <a:t>�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1900, according to the instrumental temperature record. The urban heat island effect is estimated to account for about 0.0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of warming since 1900. Since 1979, land temperatures have increased about twice as fast as ocean temperatures (0.2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 against 0.13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). Temperatures in the lower troposphere have increased between 0.12 and 0.2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0.22 and 0.4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per decade since 1979, according to satellite temperature measuremen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56536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9:18Z</dcterms:created>
  <dc:creator>PA Department of Education</dc:creator>
  <dc:description/>
  <dc:language>en-US</dc:language>
  <cp:lastModifiedBy>PA Department of Education</cp:lastModifiedBy>
  <dcterms:modified xsi:type="dcterms:W3CDTF">2009-05-21T17:46:58Z</dcterms:modified>
  <cp:revision>2</cp:revision>
  <dc:subject/>
  <dc:title>Global Warming</dc:title>
</cp:coreProperties>
</file>